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8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ohnson’s Inaugural Addres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900000" y="1430280"/>
            <a:ext cx="8578800" cy="32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land of great wealth, families must not live in hopeless poverty. In a land rich in harvest, children just must not go hungry. In a land of healing miracles, neighbors must not suffer and die unattended. In a great land of learning and scholars, young people must be taught to read and write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ident Lyndon B. Johnson,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ugural Address, January 20, 1965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900000" y="144288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Verdan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8278920" y="3354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Myriad Pro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6-03-02T13:21:45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